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9"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7"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2"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3"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39640" y="6308640"/>
            <a:ext cx="3616200" cy="107640"/>
            <a:chOff x="539640" y="6308640"/>
            <a:chExt cx="3616200" cy="107640"/>
          </a:xfrm>
        </p:grpSpPr>
        <p:sp>
          <p:nvSpPr>
            <p:cNvPr id="1" name=""/>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 name="" descr=""/>
          <p:cNvPicPr/>
          <p:nvPr/>
        </p:nvPicPr>
        <p:blipFill>
          <a:blip r:embed="rId2"/>
          <a:stretch/>
        </p:blipFill>
        <p:spPr>
          <a:xfrm>
            <a:off x="7888320" y="5661000"/>
            <a:ext cx="1076400" cy="865080"/>
          </a:xfrm>
          <a:prstGeom prst="rect">
            <a:avLst/>
          </a:prstGeom>
          <a:ln w="0">
            <a:noFill/>
          </a:ln>
        </p:spPr>
      </p:pic>
      <p:sp>
        <p:nvSpPr>
          <p:cNvPr id="4"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6"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241280" y="3951360"/>
            <a:ext cx="6661440" cy="198360"/>
            <a:chOff x="1241280" y="3951360"/>
            <a:chExt cx="6661440" cy="198360"/>
          </a:xfrm>
        </p:grpSpPr>
        <p:sp>
          <p:nvSpPr>
            <p:cNvPr id="44" name=""/>
            <p:cNvSpPr/>
            <p:nvPr/>
          </p:nvSpPr>
          <p:spPr>
            <a:xfrm>
              <a:off x="4195800" y="395136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241280" y="395136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ftr" idx="1"/>
          </p:nvPr>
        </p:nvSpPr>
        <p:spPr>
          <a:xfrm>
            <a:off x="899640" y="6237360"/>
            <a:ext cx="748836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2532240" y="568440"/>
            <a:ext cx="3668400" cy="294948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Avoin arviointi erityistilanteissa</a:t>
            </a:r>
            <a:endParaRPr b="1" lang="en-US" sz="3400" spc="-1" strike="noStrike">
              <a:solidFill>
                <a:srgbClr val="ffffff"/>
              </a:solidFill>
              <a:latin typeface="Arial"/>
            </a:endParaRPr>
          </a:p>
        </p:txBody>
      </p:sp>
      <p:sp>
        <p:nvSpPr>
          <p:cNvPr id="88" name="PlaceHolder 2"/>
          <p:cNvSpPr>
            <a:spLocks noGrp="1"/>
          </p:cNvSpPr>
          <p:nvPr>
            <p:ph type="subTitle"/>
          </p:nvPr>
        </p:nvSpPr>
        <p:spPr>
          <a:xfrm>
            <a:off x="1547640" y="5805360"/>
            <a:ext cx="6400800" cy="720720"/>
          </a:xfrm>
          <a:prstGeom prst="rect">
            <a:avLst/>
          </a:prstGeom>
          <a:noFill/>
          <a:ln w="0">
            <a:noFill/>
          </a:ln>
        </p:spPr>
        <p:txBody>
          <a:bodyPr lIns="90000" rIns="90000" tIns="46800" bIns="46800" anchor="t">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rPr>
              <a:t>Sami Majaniemi, TH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8. Avoin arviointi</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n yhdessä vastausten hakemista yhteiseen ongelmaan (erit. vaikutusarviointi)</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oi hyödyntää niin viranomaisten kuin kansalaisten tietoja ja näkemyksi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oidaan toteuttaa monin tavoin. Tässä keskitytään työskentelyyn sosiaalisen median välinein painottaen wikipohjaista työskentelyä kaikille avoimessa verkkotyötilass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sittää mm.</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vaintoihin perustuvien tietojen keräämise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nalysoinni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de-ehdotusten rakentamisen ja vertailu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nan</a:t>
            </a:r>
            <a:endParaRPr b="0" lang="en-US" sz="20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9. Opasnet-verkkotyötila (</a:t>
            </a:r>
            <a:r>
              <a:rPr b="1" lang="fi-FI" sz="2800" spc="-1" strike="noStrike">
                <a:solidFill>
                  <a:srgbClr val="ff66ff"/>
                </a:solidFill>
                <a:latin typeface="Arial"/>
              </a:rPr>
              <a:t>en.opasnet.org</a:t>
            </a:r>
            <a:r>
              <a:rPr b="1" lang="fi-FI" sz="3400" spc="-1" strike="noStrike">
                <a:solidFill>
                  <a:srgbClr val="7bc143"/>
                </a:solidFill>
                <a:latin typeface="Arial"/>
              </a:rPr>
              <a:t>)</a:t>
            </a: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rkoitettu avointen arviointien tekemise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HL:n kehittämä ja ylläpitämä, ei virallista status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ille avo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lunperin kehitetty ympäristöterveyden tarpeisi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sältää arviointeja mm. energiapolitiikasta, pienhiukkaspäästöistä, ilmastonmuutoksesta, liikenteestä, ydinonnettomuuksista (hyödyllistä tietoa sekä erityistilanteiden kannalta että yleisesti)</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kee mallipohjaista päätöksenteko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seita työkaluja (wiki, tietokanta, simulointimallit, keskustelu ja kommentoin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33520" y="152280"/>
            <a:ext cx="7997760" cy="639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09480" y="152280"/>
            <a:ext cx="8007480" cy="640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hyötyä on malleista?</a:t>
            </a:r>
            <a:br>
              <a:rPr sz="3400"/>
            </a:br>
            <a:endParaRPr b="1" lang="en-US" sz="3400" spc="-1" strike="noStrike">
              <a:solidFill>
                <a:srgbClr val="7bc143"/>
              </a:solidFill>
              <a:latin typeface="Arial"/>
            </a:endParaRPr>
          </a:p>
        </p:txBody>
      </p:sp>
      <p:sp>
        <p:nvSpPr>
          <p:cNvPr id="116" name="PlaceHolder 2"/>
          <p:cNvSpPr>
            <a:spLocks noGrp="1"/>
          </p:cNvSpPr>
          <p:nvPr>
            <p:ph/>
          </p:nvPr>
        </p:nvSpPr>
        <p:spPr>
          <a:xfrm>
            <a:off x="5580000" y="1484280"/>
            <a:ext cx="338472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allinnus helpottaa vaihtoehtojen vertailua ja valintaa päätöksentekoa varten</a:t>
            </a:r>
            <a:endParaRPr b="0" lang="en-US" sz="2600" spc="-1" strike="noStrike">
              <a:solidFill>
                <a:srgbClr val="000000"/>
              </a:solidFill>
              <a:latin typeface="Arial"/>
            </a:endParaRPr>
          </a:p>
        </p:txBody>
      </p:sp>
      <p:pic>
        <p:nvPicPr>
          <p:cNvPr id="117" name="" descr=""/>
          <p:cNvPicPr/>
          <p:nvPr/>
        </p:nvPicPr>
        <p:blipFill>
          <a:blip r:embed="rId1"/>
          <a:stretch/>
        </p:blipFill>
        <p:spPr>
          <a:xfrm>
            <a:off x="0" y="1341360"/>
            <a:ext cx="5614920" cy="491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pasnet, käyttö erityistilanteessa (1)</a:t>
            </a:r>
            <a:endParaRPr b="1" lang="en-US" sz="3400" spc="-1" strike="noStrike">
              <a:solidFill>
                <a:srgbClr val="7bc143"/>
              </a:solidFill>
              <a:latin typeface="Arial"/>
            </a:endParaRPr>
          </a:p>
        </p:txBody>
      </p:sp>
      <p:sp>
        <p:nvSpPr>
          <p:cNvPr id="11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deana keskittää tiettyä erityistilannetta koskeva tiedon kerääminen, analyysi ja jakelu yhdelle verkkosivustolle</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korvaa olemassaolevia kanavia vaan täydentää niit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 luukun järjestelmä josta kaikki toimijat voivat saada ajan tasalla olevan (saman) kokonaiskuva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ille (ml. ulkopuoliset asiantuntijat) avoin kokonaiskuva paljastaa, onko jotain tietoa jo käytettävissä ja onko jokin tekijä jo otettu toimenpiteissä/analyysissä huomioo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äkyvyyttä voidaan tarvittaessa rajoittaa kuten julkaisuoikeuksiaki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iranomaisten keskinäisen tiedonvaihdon väline</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Wikimäisyys helpottaa jälkiarvioinnin tekemistä ja tietojen uudelleenkäyttöä vastaavissa tilanteissa myöhemmin</a:t>
            </a: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arviointi: havainnot, informaation kerääminen, analysointi, toiminta, seuranta</a:t>
            </a:r>
            <a:endParaRPr b="1" lang="en-US" sz="3000" spc="-1" strike="noStrike">
              <a:solidFill>
                <a:srgbClr val="7bc143"/>
              </a:solidFill>
              <a:latin typeface="Arial"/>
            </a:endParaRPr>
          </a:p>
        </p:txBody>
      </p:sp>
      <p:grpSp>
        <p:nvGrpSpPr>
          <p:cNvPr id="121" name="Group 3"/>
          <p:cNvGrpSpPr/>
          <p:nvPr/>
        </p:nvGrpSpPr>
        <p:grpSpPr>
          <a:xfrm>
            <a:off x="826920" y="1989000"/>
            <a:ext cx="7632720" cy="4176720"/>
            <a:chOff x="826920" y="1989000"/>
            <a:chExt cx="7632720" cy="4176720"/>
          </a:xfrm>
        </p:grpSpPr>
        <p:sp>
          <p:nvSpPr>
            <p:cNvPr id="122"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5"/>
            <p:cNvGrpSpPr/>
            <p:nvPr/>
          </p:nvGrpSpPr>
          <p:grpSpPr>
            <a:xfrm>
              <a:off x="2484000" y="2205000"/>
              <a:ext cx="5329800" cy="3527640"/>
              <a:chOff x="2484000" y="2205000"/>
              <a:chExt cx="5329800" cy="3527640"/>
            </a:xfrm>
          </p:grpSpPr>
          <p:grpSp>
            <p:nvGrpSpPr>
              <p:cNvPr id="124" name="Group 6"/>
              <p:cNvGrpSpPr/>
              <p:nvPr/>
            </p:nvGrpSpPr>
            <p:grpSpPr>
              <a:xfrm>
                <a:off x="2771280" y="4221000"/>
                <a:ext cx="505440" cy="1440000"/>
                <a:chOff x="2771280" y="4221000"/>
                <a:chExt cx="505440" cy="1440000"/>
              </a:xfrm>
            </p:grpSpPr>
            <p:sp>
              <p:nvSpPr>
                <p:cNvPr id="125"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oup 15"/>
              <p:cNvGrpSpPr/>
              <p:nvPr/>
            </p:nvGrpSpPr>
            <p:grpSpPr>
              <a:xfrm>
                <a:off x="7308360" y="3284640"/>
                <a:ext cx="505440" cy="1439640"/>
                <a:chOff x="7308360" y="3284640"/>
                <a:chExt cx="505440" cy="1439640"/>
              </a:xfrm>
            </p:grpSpPr>
            <p:sp>
              <p:nvSpPr>
                <p:cNvPr id="134"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Group 24"/>
              <p:cNvGrpSpPr/>
              <p:nvPr/>
            </p:nvGrpSpPr>
            <p:grpSpPr>
              <a:xfrm>
                <a:off x="2484000" y="2637000"/>
                <a:ext cx="505440" cy="1439640"/>
                <a:chOff x="2484000" y="2637000"/>
                <a:chExt cx="505440" cy="1439640"/>
              </a:xfrm>
            </p:grpSpPr>
            <p:sp>
              <p:nvSpPr>
                <p:cNvPr id="143"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Group 33"/>
              <p:cNvGrpSpPr/>
              <p:nvPr/>
            </p:nvGrpSpPr>
            <p:grpSpPr>
              <a:xfrm>
                <a:off x="3419640" y="2349360"/>
                <a:ext cx="504360" cy="1440000"/>
                <a:chOff x="3419640" y="2349360"/>
                <a:chExt cx="504360" cy="1440000"/>
              </a:xfrm>
            </p:grpSpPr>
            <p:sp>
              <p:nvSpPr>
                <p:cNvPr id="152"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42"/>
              <p:cNvGrpSpPr/>
              <p:nvPr/>
            </p:nvGrpSpPr>
            <p:grpSpPr>
              <a:xfrm>
                <a:off x="4716000" y="2205000"/>
                <a:ext cx="505440" cy="1440000"/>
                <a:chOff x="4716000" y="2205000"/>
                <a:chExt cx="505440" cy="1440000"/>
              </a:xfrm>
            </p:grpSpPr>
            <p:sp>
              <p:nvSpPr>
                <p:cNvPr id="161"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oup 51"/>
              <p:cNvGrpSpPr/>
              <p:nvPr/>
            </p:nvGrpSpPr>
            <p:grpSpPr>
              <a:xfrm>
                <a:off x="5796000" y="4292640"/>
                <a:ext cx="504360" cy="1440000"/>
                <a:chOff x="5796000" y="4292640"/>
                <a:chExt cx="504360" cy="1440000"/>
              </a:xfrm>
            </p:grpSpPr>
            <p:sp>
              <p:nvSpPr>
                <p:cNvPr id="170"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60"/>
              <p:cNvGrpSpPr/>
              <p:nvPr/>
            </p:nvGrpSpPr>
            <p:grpSpPr>
              <a:xfrm>
                <a:off x="6372360" y="2852640"/>
                <a:ext cx="504360" cy="1440000"/>
                <a:chOff x="6372360" y="2852640"/>
                <a:chExt cx="504360" cy="1440000"/>
              </a:xfrm>
            </p:grpSpPr>
            <p:sp>
              <p:nvSpPr>
                <p:cNvPr id="179"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7" name="Group 69"/>
          <p:cNvGrpSpPr/>
          <p:nvPr/>
        </p:nvGrpSpPr>
        <p:grpSpPr>
          <a:xfrm>
            <a:off x="3214800" y="3933720"/>
            <a:ext cx="2220840" cy="1656000"/>
            <a:chOff x="3214800" y="3933720"/>
            <a:chExt cx="2220840" cy="1656000"/>
          </a:xfrm>
        </p:grpSpPr>
        <p:grpSp>
          <p:nvGrpSpPr>
            <p:cNvPr id="188" name="Group 70"/>
            <p:cNvGrpSpPr/>
            <p:nvPr/>
          </p:nvGrpSpPr>
          <p:grpSpPr>
            <a:xfrm>
              <a:off x="4284720" y="3933720"/>
              <a:ext cx="1150920" cy="1656000"/>
              <a:chOff x="4284720" y="3933720"/>
              <a:chExt cx="1150920" cy="1656000"/>
            </a:xfrm>
          </p:grpSpPr>
          <p:sp>
            <p:nvSpPr>
              <p:cNvPr id="189"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75"/>
              <p:cNvSpPr/>
              <p:nvPr/>
            </p:nvSpPr>
            <p:spPr>
              <a:xfrm>
                <a:off x="4643280" y="5157720"/>
                <a:ext cx="505080" cy="216000"/>
              </a:xfrm>
              <a:custGeom>
                <a:avLst/>
                <a:gdLst>
                  <a:gd name="textAreaLeft" fmla="*/ 0 w 505080"/>
                  <a:gd name="textAreaRight" fmla="*/ 505440 w 505080"/>
                  <a:gd name="textAreaTop" fmla="*/ 0 h 216000"/>
                  <a:gd name="textAreaBottom" fmla="*/ 216360 h 216000"/>
                </a:gdLst>
                <a:ahLst/>
                <a:rect l="textAreaLeft" t="textAreaTop" r="textAreaRight" b="textAreaBottom"/>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Freeform 79"/>
            <p:cNvSpPr/>
            <p:nvPr/>
          </p:nvSpPr>
          <p:spPr>
            <a:xfrm>
              <a:off x="3214800" y="4037040"/>
              <a:ext cx="1012680" cy="150840"/>
            </a:xfrm>
            <a:custGeom>
              <a:avLst/>
              <a:gdLst>
                <a:gd name="textAreaLeft" fmla="*/ 0 w 1012680"/>
                <a:gd name="textAreaRight" fmla="*/ 1013040 w 1012680"/>
                <a:gd name="textAreaTop" fmla="*/ 0 h 150840"/>
                <a:gd name="textAreaBottom" fmla="*/ 151200 h 150840"/>
              </a:gdLst>
              <a:ahLst/>
              <a:rect l="textAreaLeft" t="textAreaTop" r="textAreaRight" b="textAreaBottom"/>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80"/>
          <p:cNvGrpSpPr/>
          <p:nvPr/>
        </p:nvGrpSpPr>
        <p:grpSpPr>
          <a:xfrm>
            <a:off x="1032480" y="3680640"/>
            <a:ext cx="1494720" cy="1436040"/>
            <a:chOff x="1032480" y="3680640"/>
            <a:chExt cx="1494720" cy="1436040"/>
          </a:xfrm>
        </p:grpSpPr>
        <p:sp>
          <p:nvSpPr>
            <p:cNvPr id="199"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Group 83"/>
          <p:cNvGrpSpPr/>
          <p:nvPr/>
        </p:nvGrpSpPr>
        <p:grpSpPr>
          <a:xfrm>
            <a:off x="1908000" y="3052800"/>
            <a:ext cx="865440" cy="1298520"/>
            <a:chOff x="1908000" y="3052800"/>
            <a:chExt cx="865440" cy="1298520"/>
          </a:xfrm>
        </p:grpSpPr>
        <p:sp>
          <p:nvSpPr>
            <p:cNvPr id="202" name="Freeform 84"/>
            <p:cNvSpPr/>
            <p:nvPr/>
          </p:nvSpPr>
          <p:spPr>
            <a:xfrm>
              <a:off x="2268360" y="4299120"/>
              <a:ext cx="505080" cy="52200"/>
            </a:xfrm>
            <a:custGeom>
              <a:avLst/>
              <a:gdLst>
                <a:gd name="textAreaLeft" fmla="*/ 0 w 505080"/>
                <a:gd name="textAreaRight" fmla="*/ 505440 w 505080"/>
                <a:gd name="textAreaTop" fmla="*/ 0 h 52200"/>
                <a:gd name="textAreaBottom" fmla="*/ 52560 h 52200"/>
              </a:gdLst>
              <a:ahLst/>
              <a:rect l="textAreaLeft" t="textAreaTop" r="textAreaRight" b="textAreaBottom"/>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3" name="Freeform 85"/>
            <p:cNvSpPr/>
            <p:nvPr/>
          </p:nvSpPr>
          <p:spPr>
            <a:xfrm>
              <a:off x="1908000" y="3052800"/>
              <a:ext cx="584280" cy="598320"/>
            </a:xfrm>
            <a:custGeom>
              <a:avLst/>
              <a:gdLst>
                <a:gd name="textAreaLeft" fmla="*/ 0 w 584280"/>
                <a:gd name="textAreaRight" fmla="*/ 584280 w 584280"/>
                <a:gd name="textAreaTop" fmla="*/ 0 h 598320"/>
                <a:gd name="textAreaBottom" fmla="*/ 598680 h 598320"/>
              </a:gdLst>
              <a:ahLst/>
              <a:rect l="textAreaLeft" t="textAreaTop" r="textAreaRight" b="textAreaBottom"/>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Group 86"/>
          <p:cNvGrpSpPr/>
          <p:nvPr/>
        </p:nvGrpSpPr>
        <p:grpSpPr>
          <a:xfrm>
            <a:off x="1519200" y="2227320"/>
            <a:ext cx="2543040" cy="1400040"/>
            <a:chOff x="1519200" y="2227320"/>
            <a:chExt cx="2543040" cy="1400040"/>
          </a:xfrm>
        </p:grpSpPr>
        <p:sp>
          <p:nvSpPr>
            <p:cNvPr id="205" name="Freeform 87"/>
            <p:cNvSpPr/>
            <p:nvPr/>
          </p:nvSpPr>
          <p:spPr>
            <a:xfrm>
              <a:off x="3433680" y="2227320"/>
              <a:ext cx="471600" cy="304920"/>
            </a:xfrm>
            <a:custGeom>
              <a:avLst/>
              <a:gdLst>
                <a:gd name="textAreaLeft" fmla="*/ 0 w 471600"/>
                <a:gd name="textAreaRight" fmla="*/ 471960 w 471600"/>
                <a:gd name="textAreaTop" fmla="*/ 0 h 304920"/>
                <a:gd name="textAreaBottom" fmla="*/ 305280 h 304920"/>
              </a:gdLst>
              <a:ahLst/>
              <a:rect l="textAreaLeft" t="textAreaTop" r="textAreaRight" b="textAreaBottom"/>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88"/>
            <p:cNvSpPr/>
            <p:nvPr/>
          </p:nvSpPr>
          <p:spPr>
            <a:xfrm>
              <a:off x="3292560" y="3073320"/>
              <a:ext cx="272880" cy="316080"/>
            </a:xfrm>
            <a:custGeom>
              <a:avLst/>
              <a:gdLst>
                <a:gd name="textAreaLeft" fmla="*/ 0 w 272880"/>
                <a:gd name="textAreaRight" fmla="*/ 273240 w 272880"/>
                <a:gd name="textAreaTop" fmla="*/ 0 h 316080"/>
                <a:gd name="textAreaBottom" fmla="*/ 316440 h 316080"/>
              </a:gdLst>
              <a:ahLst/>
              <a:rect l="textAreaLeft" t="textAreaTop" r="textAreaRight" b="textAreaBottom"/>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89"/>
            <p:cNvSpPr/>
            <p:nvPr/>
          </p:nvSpPr>
          <p:spPr>
            <a:xfrm flipH="1">
              <a:off x="3780000" y="3029040"/>
              <a:ext cx="282240" cy="341280"/>
            </a:xfrm>
            <a:custGeom>
              <a:avLst/>
              <a:gdLst>
                <a:gd name="textAreaLeft" fmla="*/ 360 w 282240"/>
                <a:gd name="textAreaRight" fmla="*/ 282960 w 282240"/>
                <a:gd name="textAreaTop" fmla="*/ 0 h 341280"/>
                <a:gd name="textAreaBottom" fmla="*/ 341640 h 341280"/>
              </a:gdLst>
              <a:ahLst/>
              <a:rect l="textAreaLeft" t="textAreaTop" r="textAreaRight" b="textAreaBottom"/>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90"/>
            <p:cNvSpPr/>
            <p:nvPr/>
          </p:nvSpPr>
          <p:spPr>
            <a:xfrm>
              <a:off x="1519200" y="2400480"/>
              <a:ext cx="1825560" cy="1226880"/>
            </a:xfrm>
            <a:custGeom>
              <a:avLst/>
              <a:gdLst>
                <a:gd name="textAreaLeft" fmla="*/ 0 w 1825560"/>
                <a:gd name="textAreaRight" fmla="*/ 1825920 w 1825560"/>
                <a:gd name="textAreaTop" fmla="*/ 0 h 1226880"/>
                <a:gd name="textAreaBottom" fmla="*/ 1227240 h 1226880"/>
              </a:gdLst>
              <a:ahLst/>
              <a:rect l="textAreaLeft" t="textAreaTop" r="textAreaRight" b="textAreaBottom"/>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Group 91"/>
          <p:cNvGrpSpPr/>
          <p:nvPr/>
        </p:nvGrpSpPr>
        <p:grpSpPr>
          <a:xfrm>
            <a:off x="3952800" y="2639880"/>
            <a:ext cx="3376800" cy="1992600"/>
            <a:chOff x="3952800" y="2639880"/>
            <a:chExt cx="3376800" cy="1992600"/>
          </a:xfrm>
        </p:grpSpPr>
        <p:sp>
          <p:nvSpPr>
            <p:cNvPr id="210" name="Freeform 92"/>
            <p:cNvSpPr/>
            <p:nvPr/>
          </p:nvSpPr>
          <p:spPr>
            <a:xfrm>
              <a:off x="5292720" y="2736720"/>
              <a:ext cx="1004760" cy="1052640"/>
            </a:xfrm>
            <a:custGeom>
              <a:avLst/>
              <a:gdLst>
                <a:gd name="textAreaLeft" fmla="*/ 0 w 1004760"/>
                <a:gd name="textAreaRight" fmla="*/ 1005120 w 1004760"/>
                <a:gd name="textAreaTop" fmla="*/ 0 h 1052640"/>
                <a:gd name="textAreaBottom" fmla="*/ 1053000 h 1052640"/>
              </a:gdLst>
              <a:ahLst/>
              <a:rect l="textAreaLeft" t="textAreaTop" r="textAreaRight" b="textAreaBottom"/>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93"/>
            <p:cNvSpPr/>
            <p:nvPr/>
          </p:nvSpPr>
          <p:spPr>
            <a:xfrm>
              <a:off x="3952800" y="2639880"/>
              <a:ext cx="687600" cy="1128960"/>
            </a:xfrm>
            <a:custGeom>
              <a:avLst/>
              <a:gdLst>
                <a:gd name="textAreaLeft" fmla="*/ 0 w 687600"/>
                <a:gd name="textAreaRight" fmla="*/ 687960 w 687600"/>
                <a:gd name="textAreaTop" fmla="*/ 0 h 1128960"/>
                <a:gd name="textAreaBottom" fmla="*/ 1129320 h 1128960"/>
              </a:gdLst>
              <a:ahLst/>
              <a:rect l="textAreaLeft" t="textAreaTop" r="textAreaRight" b="textAreaBottom"/>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94"/>
            <p:cNvSpPr/>
            <p:nvPr/>
          </p:nvSpPr>
          <p:spPr>
            <a:xfrm>
              <a:off x="5530680" y="3651120"/>
              <a:ext cx="619200" cy="552600"/>
            </a:xfrm>
            <a:custGeom>
              <a:avLst/>
              <a:gdLst>
                <a:gd name="textAreaLeft" fmla="*/ 0 w 619200"/>
                <a:gd name="textAreaRight" fmla="*/ 619560 w 619200"/>
                <a:gd name="textAreaTop" fmla="*/ 0 h 552600"/>
                <a:gd name="textAreaBottom" fmla="*/ 552960 h 552600"/>
              </a:gdLst>
              <a:ahLst/>
              <a:rect l="textAreaLeft" t="textAreaTop" r="textAreaRight" b="textAreaBottom"/>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95"/>
            <p:cNvSpPr/>
            <p:nvPr/>
          </p:nvSpPr>
          <p:spPr>
            <a:xfrm>
              <a:off x="6415200" y="3760920"/>
              <a:ext cx="914400" cy="871560"/>
            </a:xfrm>
            <a:custGeom>
              <a:avLst/>
              <a:gdLst>
                <a:gd name="textAreaLeft" fmla="*/ 0 w 914400"/>
                <a:gd name="textAreaRight" fmla="*/ 914760 w 914400"/>
                <a:gd name="textAreaTop" fmla="*/ 0 h 871560"/>
                <a:gd name="textAreaBottom" fmla="*/ 871920 h 871560"/>
              </a:gdLst>
              <a:ahLst/>
              <a:rect l="textAreaLeft" t="textAreaTop" r="textAreaRight" b="textAreaBottom"/>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pasnet, käyttö erityistilanteessa (2)</a:t>
            </a:r>
            <a:endParaRPr b="1" lang="en-US" sz="3400" spc="-1" strike="noStrike">
              <a:solidFill>
                <a:srgbClr val="7bc143"/>
              </a:solidFill>
              <a:latin typeface="Arial"/>
            </a:endParaRPr>
          </a:p>
        </p:txBody>
      </p:sp>
      <p:sp>
        <p:nvSpPr>
          <p:cNvPr id="21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8000"/>
          </a:bodyPr>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ordinaattori/tiedotusvastaava avaa (tilannehuone)sivuston verkkotyötilaan (Opasnet) ja laittaa sinne ensimmäiset perustiedot sekä sen millaista tietoa kaivataan lisää, milloin tieto on käytössä jn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vun URL jaetaan kaikille asianosaisille ml. tiedotusvälineet. Analyysiä varten voidaan perustaa myös erillinen sivu, joka ei ole avoin mediall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ustelua ja väittelyä (toimenpiteistä ym.) käydään erityistilannesivuun liittyvällä keskustelusivulla, josta koostetaan yhteenvetoa varsinaiselle tilannehuonesivull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omäärän kasvaessa voidaan aiheita eriyttää omille alasivuilleen analyysin tehostamiseksi.</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pasnetissä jo olemassa olevia analyyseja ja sivuja voidaan käyttää uuden vaikutusarvioinnin osana (esim. mallien uudelleenparametrisointi ja simulointi)</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uiden kuin viranomaistoimijoiden havainnoille voidaan avata oma sivunsa (kanavansa), jotta hiljainen tieto saadaan käyttöön</a:t>
            </a:r>
            <a:endParaRPr b="0" lang="en-US" sz="2000" spc="-1" strike="noStrike">
              <a:solidFill>
                <a:srgbClr val="000000"/>
              </a:solidFill>
              <a:latin typeface="Arial"/>
            </a:endParaRPr>
          </a:p>
          <a:p>
            <a:pPr marL="349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33520" y="152280"/>
            <a:ext cx="8007120" cy="640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simerkki: sikainfluenssa-arviointi (1)</a:t>
            </a:r>
            <a:br>
              <a:rPr sz="3400"/>
            </a:br>
            <a:endParaRPr b="1" lang="en-US" sz="3400" spc="-1" strike="noStrike">
              <a:solidFill>
                <a:srgbClr val="7bc143"/>
              </a:solidFill>
              <a:latin typeface="Arial"/>
            </a:endParaRPr>
          </a:p>
        </p:txBody>
      </p:sp>
      <p:sp>
        <p:nvSpPr>
          <p:cNvPr id="218" name="PlaceHolder 2"/>
          <p:cNvSpPr>
            <a:spLocks noGrp="1"/>
          </p:cNvSpPr>
          <p:nvPr>
            <p:ph/>
          </p:nvPr>
        </p:nvSpPr>
        <p:spPr>
          <a:xfrm>
            <a:off x="6400800" y="1484280"/>
            <a:ext cx="2563920" cy="4392720"/>
          </a:xfrm>
          <a:prstGeom prst="rect">
            <a:avLst/>
          </a:prstGeom>
          <a:noFill/>
          <a:ln w="0">
            <a:noFill/>
          </a:ln>
        </p:spPr>
        <p:txBody>
          <a:bodyPr lIns="90000" rIns="90000" tIns="46800" bIns="46800" anchor="t">
            <a:normAutofit/>
          </a:bodyPr>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ettu yhteistyöllä (eri alojen ammattilaiset)</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steluno-peus riittävä erikoistilanne- analyysiin</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taso riittävä tieteelliseen julkaisuun</a:t>
            </a:r>
            <a:endParaRPr b="0" lang="en-US" sz="2400" spc="-1" strike="noStrike">
              <a:solidFill>
                <a:srgbClr val="000000"/>
              </a:solidFill>
              <a:latin typeface="Arial"/>
            </a:endParaRPr>
          </a:p>
        </p:txBody>
      </p:sp>
      <p:pic>
        <p:nvPicPr>
          <p:cNvPr id="219" name="" descr=""/>
          <p:cNvPicPr/>
          <p:nvPr/>
        </p:nvPicPr>
        <p:blipFill>
          <a:blip r:embed="rId1"/>
          <a:stretch/>
        </p:blipFill>
        <p:spPr>
          <a:xfrm>
            <a:off x="0" y="1295280"/>
            <a:ext cx="6321600" cy="42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sällysluettelo</a:t>
            </a:r>
            <a:endParaRPr b="1" lang="en-US" sz="3400" spc="-1" strike="noStrike">
              <a:solidFill>
                <a:srgbClr val="7bc143"/>
              </a:solidFill>
              <a:latin typeface="Arial"/>
            </a:endParaRPr>
          </a:p>
        </p:txBody>
      </p:sp>
      <p:sp>
        <p:nvSpPr>
          <p:cNvPr id="9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8000"/>
          </a:bodyPr>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 Erityistilanteit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2) Kriisien erityispiirteitä</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3) Tiedontuotannon aikajan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4) Yhtäläisyyksiä</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5) Aikajana: Vanhat hyvät konstit</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6) Uudet teesit</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7) Sosiaalisen median palveluj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8) Avoin arviointi</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9) Opasnet-verkkotyötil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0) Opasnet, käyttö erityistilanteess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1) Ongelmia ja ratkaisuj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2) Yhteenve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simerkki: sikainfluenssa-arviointi (2)</a:t>
            </a:r>
            <a:br>
              <a:rPr sz="3400"/>
            </a:br>
            <a:endParaRPr b="1" lang="en-US" sz="3400" spc="-1" strike="noStrike">
              <a:solidFill>
                <a:srgbClr val="7bc143"/>
              </a:solidFill>
              <a:latin typeface="Arial"/>
            </a:endParaRPr>
          </a:p>
        </p:txBody>
      </p:sp>
      <p:sp>
        <p:nvSpPr>
          <p:cNvPr id="221" name="PlaceHolder 2"/>
          <p:cNvSpPr>
            <a:spLocks noGrp="1"/>
          </p:cNvSpPr>
          <p:nvPr>
            <p:ph/>
          </p:nvPr>
        </p:nvSpPr>
        <p:spPr>
          <a:xfrm>
            <a:off x="6019920" y="1484280"/>
            <a:ext cx="2944800" cy="4392720"/>
          </a:xfrm>
          <a:prstGeom prst="rect">
            <a:avLst/>
          </a:prstGeom>
          <a:noFill/>
          <a:ln w="0">
            <a:noFill/>
          </a:ln>
        </p:spPr>
        <p:txBody>
          <a:bodyPr lIns="90000" rIns="90000" tIns="46800" bIns="46800" anchor="t">
            <a:normAutofit/>
          </a:bodyPr>
          <a:p>
            <a:pPr marL="357120" indent="-357120">
              <a:lnSpc>
                <a:spcPct val="7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ettu yhteistyöllä (eri alojen ammattilaiset)</a:t>
            </a:r>
            <a:endParaRPr b="0" lang="en-US" sz="2400" spc="-1" strike="noStrike">
              <a:solidFill>
                <a:srgbClr val="000000"/>
              </a:solidFill>
              <a:latin typeface="Arial"/>
            </a:endParaRPr>
          </a:p>
          <a:p>
            <a:pPr marL="357120" indent="-357120">
              <a:lnSpc>
                <a:spcPct val="7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stelunope-us riittävä erikoistilanne- analyysiin</a:t>
            </a:r>
            <a:endParaRPr b="0" lang="en-US" sz="2400" spc="-1" strike="noStrike">
              <a:solidFill>
                <a:srgbClr val="000000"/>
              </a:solidFill>
              <a:latin typeface="Arial"/>
            </a:endParaRPr>
          </a:p>
          <a:p>
            <a:pPr marL="357120" indent="-357120">
              <a:lnSpc>
                <a:spcPct val="7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taso riittävä tieteelliseen julkaisuun</a:t>
            </a:r>
            <a:endParaRPr b="0" lang="en-US" sz="2400" spc="-1" strike="noStrike">
              <a:solidFill>
                <a:srgbClr val="000000"/>
              </a:solidFill>
              <a:latin typeface="Arial"/>
            </a:endParaRPr>
          </a:p>
        </p:txBody>
      </p:sp>
      <p:pic>
        <p:nvPicPr>
          <p:cNvPr id="222" name="" descr=""/>
          <p:cNvPicPr/>
          <p:nvPr/>
        </p:nvPicPr>
        <p:blipFill>
          <a:blip r:embed="rId1"/>
          <a:stretch/>
        </p:blipFill>
        <p:spPr>
          <a:xfrm>
            <a:off x="609480" y="990720"/>
            <a:ext cx="5334120" cy="520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1)</a:t>
            </a:r>
            <a:endParaRPr b="1" lang="en-US" sz="3400" spc="-1" strike="noStrike">
              <a:solidFill>
                <a:srgbClr val="7bc143"/>
              </a:solidFill>
              <a:latin typeface="Arial"/>
            </a:endParaRPr>
          </a:p>
        </p:txBody>
      </p:sp>
      <p:sp>
        <p:nvSpPr>
          <p:cNvPr id="22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0000"/>
                </a:solidFill>
                <a:latin typeface="Arial"/>
              </a:rPr>
              <a:t>Mikä vika vanhoissa menetelmissä on?</a:t>
            </a:r>
            <a:endParaRPr b="0" lang="en-US" sz="2000" spc="-1" strike="noStrike">
              <a:solidFill>
                <a:srgbClr val="000000"/>
              </a:solidFill>
              <a:latin typeface="Arial"/>
            </a:endParaRPr>
          </a:p>
          <a:p>
            <a:pPr lvl="1" marL="809640" indent="-273240">
              <a:lnSpc>
                <a:spcPct val="8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onet vanhoista käytännöistä on hyviä ja kokemuksen kautta toimivaksi osoitettuja. Niitä hyödynnetään jatkossakin.</a:t>
            </a:r>
            <a:endParaRPr b="0" lang="en-US" sz="2000" spc="-1" strike="noStrike">
              <a:solidFill>
                <a:srgbClr val="000000"/>
              </a:solidFill>
              <a:latin typeface="Arial"/>
            </a:endParaRPr>
          </a:p>
          <a:p>
            <a:pPr lvl="1" marL="809640" indent="-273240">
              <a:lnSpc>
                <a:spcPct val="8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Vanhoissa menetelmissä on se vika, että niiden avulla tieto kulkee huonosti paikasta toiseen, varsinkin ‘kansalta’ (muilta kuin viranomaishavainnoitsijoilta) viranomaisille. Myös viranomaisten välisessä viestinnässä on parantamisen varaa. Näitä ongelmia voidaan ratkaista sosiaalisen median käytännöillä</a:t>
            </a:r>
            <a:endParaRPr b="0" lang="en-US" sz="2000" spc="-1" strike="noStrike">
              <a:solidFill>
                <a:srgbClr val="000000"/>
              </a:solidFill>
              <a:latin typeface="Arial"/>
            </a:endParaRPr>
          </a:p>
          <a:p>
            <a:pPr lvl="1" marL="809640" indent="-273240">
              <a:lnSpc>
                <a:spcPct val="8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itä pitkäkestoisemmasta tiedontuotantoharjoituksesta on kyse (akuutti kriisi, poliittinen päätöksenteko) sitä enemmän on mahdollisuuksia ja syitä hyödyntää kaikkien asianosaisten panosta ongelman ratkaisussa. (Esim. fixmystreet.ca, erilaiset BigSociety -palvelut.) Tilannekuvan koostaminen crowsourcing-periaatteella hyödyntämätön resurssi erityistilanteissa yleises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2)</a:t>
            </a:r>
            <a:endParaRPr b="1" lang="en-US" sz="3400" spc="-1" strike="noStrike">
              <a:solidFill>
                <a:srgbClr val="7bc143"/>
              </a:solidFill>
              <a:latin typeface="Arial"/>
            </a:endParaRPr>
          </a:p>
        </p:txBody>
      </p:sp>
      <p:sp>
        <p:nvSpPr>
          <p:cNvPr id="226"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Valtionhallinnolla on jo käytössä kokoavia kriisiviestintäpalveluj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Ei sellaista, joka mahdollistaa organisaatioiden ulkopuolisten kontribuutiot</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Wikipohjainen tiedonkeräys ei toimi, koska ihmiset eivät pysty hahmottamaan suuresta tekstimassasta olennai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Materiaali jäsennetään sitä mukaa kun sitä syntyy</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ikki eivät pidä tekstuaalisesta kommunikaatio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Lyhyellä kontribuutiolla pärjää, helpompaa kuin raportin kirjoittaminen</a:t>
            </a:r>
            <a:endParaRPr b="0" lang="en-US" sz="20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Wiki vain tukee ja vetää yhteen eri tavoin kerättyjä tietoja, rittää siis että muutama aktiivi tekee päivityks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3)</a:t>
            </a:r>
            <a:endParaRPr b="1" lang="en-US" sz="3400" spc="-1" strike="noStrike">
              <a:solidFill>
                <a:srgbClr val="7bc143"/>
              </a:solidFill>
              <a:latin typeface="Arial"/>
            </a:endParaRPr>
          </a:p>
        </p:txBody>
      </p:sp>
      <p:sp>
        <p:nvSpPr>
          <p:cNvPr id="228"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Byrokratia vain lisääntyy</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Raportit, loppuanalyysi voidaan helpommin koostaa wikihistoriast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navia on jo nyt liian moni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Nopean kokonaiskuvan saamiseksi on hyödyllistä, jos tiedotusvastuussa olevat organisaatiot työskentelevät yhteisen tilannekuvakatsauksen parissa. Wikipediamainen työskentely takaa sen että kaikilla on sama informaatio joka on aina ajan tasall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Ulkopuoliset päivitykset ovat epäluotettavi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Päivitykset tulevat viranomaisten kautta viralliseen tilannekuvaan. Esim. silminnäkijähavainnot ovat aina epäluotettavia ja samat ’huijauksen’ elementit ovat mahdollisia myös perinteisemmissä tiedonkeruumenetelmissä</a:t>
            </a: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4)</a:t>
            </a:r>
            <a:endParaRPr b="1" lang="en-US" sz="3400" spc="-1" strike="noStrike">
              <a:solidFill>
                <a:srgbClr val="7bc143"/>
              </a:solidFill>
              <a:latin typeface="Arial"/>
            </a:endParaRPr>
          </a:p>
        </p:txBody>
      </p:sp>
      <p:sp>
        <p:nvSpPr>
          <p:cNvPr id="23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Nykyinen käytäntö, joka on suljetumpi, hidas (faktojen tarkistus) ja siten luotettavampi, on parempi kuin ehdotettu wikipohjainen menetelmä, joka on nopea ja siksi myös epäluotettav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Wikipohjaista avointa arviointia voidaan hidastaa samaan tahtiin kuin nykymenetelmääkin. Faktat voidaan tarkistaa yhtä perusteellisesti. Kuitenkin, nopeammasta ja kevyemmän kontrollin läpikäyneen materiaalin samanaikaisesta näkyvyydestä vähintäänkin viranomaistahoille voi olla yllättävää hyötyä reaktikyvyn ja varautumisen suhteen</a:t>
            </a:r>
            <a:endParaRPr b="0" lang="en-US" sz="20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Suurelle yleisölle näkyvyyttä voidaan kontrolloida kuten nykyäänkin, mutta täysi läpinäkyvyys voi myös luoda suurempaa luottamusta viranomaisten toimintaa kohtaan kuin tiedon panttaaminen. Molemmissa tapauksissa huhuja lähtee kiertämää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5)</a:t>
            </a:r>
            <a:endParaRPr b="1" lang="en-US" sz="3400" spc="-1" strike="noStrike">
              <a:solidFill>
                <a:srgbClr val="7bc143"/>
              </a:solidFill>
              <a:latin typeface="Arial"/>
            </a:endParaRPr>
          </a:p>
        </p:txBody>
      </p:sp>
      <p:sp>
        <p:nvSpPr>
          <p:cNvPr id="23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Virkamieheltä tai instituutiolta voi mennä maine, jos kommunikaatio ja analyysi on liian julki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Uusi sosiaalisen median viestintäkulttuuri jakaa mainetta eri tavalla kuin vanha erityisesti nuorempien sukupolvien pariss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nsa ei siedä ’epätäydellistä’ tiedotu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Kansa edellyttää kommunikaatiota, taustatietoa ja perusteita. Erityisesti yleisen koulutustason noustessa ja diginatiivien toimintaperiaatteiden yleistyessä viranomaistoiminnan kriteerit muuttuvat joka tapauksessa tasavertaisempaan suuntaan. Sama pätee poliittiseen päätöksentekoon.</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irjallisesti tehdyt virheet ovat raskauttavampia jos jokin menee pieleen</a:t>
            </a:r>
            <a:endParaRPr b="0" lang="en-US" sz="2200" spc="-1" strike="noStrike">
              <a:solidFill>
                <a:srgbClr val="000000"/>
              </a:solidFill>
              <a:latin typeface="Arial"/>
            </a:endParaRPr>
          </a:p>
          <a:p>
            <a:pPr lvl="1" marL="809640" indent="-273240">
              <a:lnSpc>
                <a:spcPct val="75000"/>
              </a:lnSpc>
              <a:spcBef>
                <a:spcPts val="56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80ff"/>
                </a:solidFill>
                <a:latin typeface="Arial"/>
              </a:rPr>
              <a:t>Vastuunkannon periaatteet tulevat muuttumaan myös juridisesti</a:t>
            </a:r>
            <a:endParaRPr b="0" lang="en-US" sz="18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2. Yhteenveto</a:t>
            </a:r>
            <a:endParaRPr b="1" lang="en-US" sz="3400" spc="-1" strike="noStrike">
              <a:solidFill>
                <a:srgbClr val="7bc143"/>
              </a:solidFill>
              <a:latin typeface="Arial"/>
            </a:endParaRPr>
          </a:p>
        </p:txBody>
      </p:sp>
      <p:sp>
        <p:nvSpPr>
          <p:cNvPr id="23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iranomaisten kommunikointia ja vaikutusarviointia voidaan tehostaa wikipediamaisella sosiaalisen median käytöllä</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ehdistölle ja kansalaisille voidaan tarjota sopiva näkymä tilannekuvan kehittymiseen. Lisäksi muiden kuin viranomaistoimijoiden hiljaista tietoa voidaan kerätä samaa instrumenttia käyttäen vaikutusarvioinnin tueksi.</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teisöllinen tiedontuotanto voi hyödyntää samoja käytäntöjä ja työkaluja, joita tarvitaan myös tieteellisen tutkimuksen ja uudistuvan poliittisen päätöksenteon parissa</a:t>
            </a:r>
            <a:endParaRPr b="0" lang="en-US" sz="2200" spc="-1" strike="noStrike">
              <a:solidFill>
                <a:srgbClr val="000000"/>
              </a:solidFill>
              <a:latin typeface="Arial"/>
            </a:endParaRPr>
          </a:p>
          <a:p>
            <a:pPr marL="357120" indent="0">
              <a:lnSpc>
                <a:spcPct val="8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8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 Erityistilanteita</a:t>
            </a:r>
            <a:endParaRPr b="1" lang="en-US" sz="3400" spc="-1" strike="noStrike">
              <a:solidFill>
                <a:srgbClr val="7bc143"/>
              </a:solidFill>
              <a:latin typeface="Arial"/>
            </a:endParaRPr>
          </a:p>
        </p:txBody>
      </p:sp>
      <p:sp>
        <p:nvSpPr>
          <p:cNvPr id="9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okian vesikriis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a:t>
            </a:r>
            <a:r>
              <a:rPr b="0" lang="fi-FI" sz="2600" spc="-1" strike="noStrike">
                <a:solidFill>
                  <a:srgbClr val="000000"/>
                </a:solidFill>
                <a:latin typeface="Arial"/>
                <a:ea typeface="ＭＳ Ｐゴシック"/>
              </a:rPr>
              <a:t>slannin tulivuorenpurka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Meksikonlahden öljykatastrof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Sikainfluenssa-pandem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Fukushiman ydinonnettomu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Pankkikriis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2. Kriisien erityispiirteitä</a:t>
            </a:r>
            <a:endParaRPr b="1" lang="en-US" sz="3400" spc="-1" strike="noStrike">
              <a:solidFill>
                <a:srgbClr val="7bc143"/>
              </a:solidFill>
              <a:latin typeface="Arial"/>
            </a:endParaRPr>
          </a:p>
        </p:txBody>
      </p:sp>
      <p:sp>
        <p:nvSpPr>
          <p:cNvPr id="9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esto viikoista vuosi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iranomaiset julkisuuden riepoteltavana, ristiriitaista informaatio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siantuntijoiden eriävät mielipite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 salailu (yritykset, ”viranomaisefekt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kulun katkokset, siiloutum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leisön epäluottamus (tasapaino nopeuden, tarkkuuden välillä)</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3. Tiedontuotannon aikajana</a:t>
            </a:r>
            <a:endParaRPr b="1" lang="en-US" sz="3400" spc="-1" strike="noStrike">
              <a:solidFill>
                <a:srgbClr val="7bc143"/>
              </a:solidFill>
              <a:latin typeface="Arial"/>
            </a:endParaRPr>
          </a:p>
        </p:txBody>
      </p:sp>
      <p:sp>
        <p:nvSpPr>
          <p:cNvPr id="96" name=""/>
          <p:cNvSpPr/>
          <p:nvPr/>
        </p:nvSpPr>
        <p:spPr>
          <a:xfrm>
            <a:off x="762120" y="3962520"/>
            <a:ext cx="78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1920" y="2362320"/>
            <a:ext cx="290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imintasuunnitel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timinen yllätyksellisess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antees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lyhyt ajanjakso)</a:t>
            </a:r>
            <a:endParaRPr b="0" lang="en-US" sz="1800" spc="-1" strike="noStrike">
              <a:solidFill>
                <a:srgbClr val="000000"/>
              </a:solidFill>
              <a:latin typeface="Arial"/>
            </a:endParaRPr>
          </a:p>
        </p:txBody>
      </p:sp>
      <p:sp>
        <p:nvSpPr>
          <p:cNvPr id="98" name=""/>
          <p:cNvSpPr/>
          <p:nvPr/>
        </p:nvSpPr>
        <p:spPr>
          <a:xfrm>
            <a:off x="6329880" y="2362320"/>
            <a:ext cx="229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teellisen artikkel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rjoittami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pitkä ajanjakso)</a:t>
            </a:r>
            <a:endParaRPr b="0" lang="en-US" sz="1800" spc="-1" strike="noStrike">
              <a:solidFill>
                <a:srgbClr val="000000"/>
              </a:solidFill>
              <a:latin typeface="Arial"/>
            </a:endParaRPr>
          </a:p>
        </p:txBody>
      </p:sp>
      <p:sp>
        <p:nvSpPr>
          <p:cNvPr id="99" name=""/>
          <p:cNvSpPr/>
          <p:nvPr/>
        </p:nvSpPr>
        <p:spPr>
          <a:xfrm>
            <a:off x="3738600" y="2362320"/>
            <a:ext cx="236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ittinen päätök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keskipitkä ajanjakso)</a:t>
            </a:r>
            <a:endParaRPr b="0" lang="en-US" sz="1800" spc="-1" strike="noStrike">
              <a:solidFill>
                <a:srgbClr val="000000"/>
              </a:solidFill>
              <a:latin typeface="Arial"/>
            </a:endParaRPr>
          </a:p>
        </p:txBody>
      </p:sp>
      <p:sp>
        <p:nvSpPr>
          <p:cNvPr id="100" name=""/>
          <p:cNvSpPr/>
          <p:nvPr/>
        </p:nvSpPr>
        <p:spPr>
          <a:xfrm>
            <a:off x="761760" y="4444920"/>
            <a:ext cx="76712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symys: Kuinka paljon kaikissa näissä näennäisesti erilaisissa tilanteis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aan hyödyntää samoja menetelmiä ja työkalu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4. Yhtäläisyyksiä</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tuotantoharjoituksen mielessä vain käytettävissä olevan ajan määrä on erilainen, muuten voidaan hyödyntää samoja käytäntöj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uden luominen (analyysiprosess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anhojen ratkaisujen ja kokemusten hyödyntäm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issa parannettavaa yhteistyön ja tiedon jakamisen suhteen</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5. Aikajana: Vanhat hyvät konstit</a:t>
            </a:r>
            <a:endParaRPr b="1" lang="en-US" sz="3400" spc="-1" strike="noStrike">
              <a:solidFill>
                <a:srgbClr val="7bc143"/>
              </a:solidFill>
              <a:latin typeface="Arial"/>
            </a:endParaRPr>
          </a:p>
        </p:txBody>
      </p:sp>
      <p:sp>
        <p:nvSpPr>
          <p:cNvPr id="104"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opeatempoisessa erityistilanteessa yhteisöllinen tiedontuotanto toimii vain osana vanhojen hyväksi havaittujen konstien kirj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t>
            </a:r>
            <a:r>
              <a:rPr b="0" lang="fi-FI" sz="2600" spc="-1" strike="noStrike">
                <a:solidFill>
                  <a:srgbClr val="000000"/>
                </a:solidFill>
                <a:latin typeface="Arial"/>
              </a:rPr>
              <a:t>Kaavanomainen’ kriisinhallintaprosessi säilyy jatkossakin</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096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6. Uudet teesit</a:t>
            </a:r>
            <a:endParaRPr b="1" lang="en-US" sz="3400" spc="-1" strike="noStrike">
              <a:solidFill>
                <a:srgbClr val="7bc143"/>
              </a:solidFill>
              <a:latin typeface="Arial"/>
            </a:endParaRPr>
          </a:p>
        </p:txBody>
      </p:sp>
      <p:sp>
        <p:nvSpPr>
          <p:cNvPr id="106"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rmeijamainen johtamistyyli vs. luova ongelmanratkaisu (vastaavat eri kysymyksi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työ</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ehostetusti ammattilaisten välillä</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avaintojen ym. informaation hyväksyminen ’ulkopuolisilta’</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jakaminen uusin välinein (twitter, naamakirja jne.) tehostaa viestintää erit. viranomaisilta kansalaisille, mutta ei ratkaise yhteisöllisen ongelmanratkaisun haastetta</a:t>
            </a:r>
            <a:endParaRPr b="0" lang="en-US" sz="2600" spc="-1" strike="noStrike">
              <a:solidFill>
                <a:srgbClr val="000000"/>
              </a:solidFill>
              <a:latin typeface="Arial"/>
            </a:endParaRPr>
          </a:p>
          <a:p>
            <a:pPr lvl="1" marL="8096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7. Sosiaalisen median palveluja</a:t>
            </a:r>
            <a:endParaRPr b="1" lang="en-US" sz="3400" spc="-1" strike="noStrike">
              <a:solidFill>
                <a:srgbClr val="7bc143"/>
              </a:solidFill>
              <a:latin typeface="Arial"/>
            </a:endParaRPr>
          </a:p>
        </p:txBody>
      </p:sp>
      <p:sp>
        <p:nvSpPr>
          <p:cNvPr id="108"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Facebook vastaa kysymykseen ”mitä sinulle kuuluu?”</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Wikipedia vastaa kysymykseen ”mikä tämä asia o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 vastaa kysymyksiin ”mitä tälle asialle voidaan tehdä?”, ”miten tämä ongelma ratkaista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2:06:43Z</dcterms:created>
  <dc:creator>ktluser</dc:creator>
  <dc:description/>
  <dc:language>en-US</dc:language>
  <cp:lastModifiedBy>bb aa</cp:lastModifiedBy>
  <dcterms:modified xsi:type="dcterms:W3CDTF">2011-05-17T10:02:35Z</dcterms:modified>
  <cp:revision>76</cp:revision>
  <dc:subject/>
  <dc:title>Slide 1</dc:title>
</cp:coreProperties>
</file>